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7.jpeg" ContentType="image/jpeg"/>
  <Override PartName="/ppt/media/image9.gif" ContentType="image/gif"/>
  <Override PartName="/ppt/media/image11.wmf" ContentType="image/x-wmf"/>
  <Override PartName="/ppt/media/image5.png" ContentType="image/png"/>
  <Override PartName="/ppt/media/image13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6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23.jpeg" ContentType="image/jpeg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media/image19.wmf" ContentType="image/x-wmf"/>
  <Override PartName="/ppt/media/image21.png" ContentType="image/png"/>
  <Override PartName="/ppt/media/image2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0BE6-85B7-43B1-8F30-5EFD759AF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07D-F0A8-42FE-B9A5-E12AEE2114D4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0124-DB0D-4C55-993A-DF8787D8B8A7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0F67-3AA5-4067-B81F-DB34938775E0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9175-A6E3-41FD-AEDA-5C3412466BF7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3AE-0B42-4D33-8879-B9989B2B8A87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F6C5-5FD0-4749-A529-1342B7CA94C0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8798-E204-473B-B4B4-B7B39020E125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AA0C-4B93-4A06-BCBD-559373F23FE1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7CAB-8DD3-41D1-96A6-F429B11503FC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BAEF-8B13-4116-9419-D2DBAD9D9690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F083-BFC2-4E35-ABB8-CC6FC3E2F716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4F70-E51E-46F2-A6F0-376A847D3D06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92C-D40A-47D0-A616-739F928EF4F5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ABB1-4BFB-4D9E-9D9C-1C9C904B29F7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BB1-1C7C-49DD-8F9B-0D742EBDF62F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73E1-DE98-4558-99C9-3465B8B59305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FC48-94CC-462C-92C6-3E26BA0FE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6F3A-37C4-4CB2-8F7E-D9794083D40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DCF7D6-D374-4A65-B36F-4D254BA47F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54873B-46E0-4D74-B351-51BF42CFA9A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996EED-EED8-4D36-9F68-2B75975F3BF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C46CD2-F33B-4163-8C7E-509FECD0B8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B68252-48CD-4B55-B876-F0BACFBA73A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F72037-677C-42C6-9725-19FFF141721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8F824D-8AC7-4923-96BB-37B2B5E10F4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4928F0-2DC5-4CC8-9819-950E5E0267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FC502A-50EB-47E6-878B-8F4C1C14CC8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B0F47-7DD4-4575-BEB2-61EC38915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6847-4E39-4A6E-BE4F-C0300DA1B20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D837A-26D2-44FE-8C67-D2E4B55D226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8A803-2B02-4E6B-97A0-A6F3E802B1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96054-DC4E-4E32-8E60-830BA68DDF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65BBC-1A88-4F3B-B159-22E3616292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AC75-3300-45DA-8981-125D275E722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AF4C2-BA83-4F81-87E7-F2A2440D81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9CE1-6619-4863-95B2-183AA1E8DFA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6694-6F6C-4960-9259-D475A2B8DF3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B0D9A-5769-4827-9B5D-C6A7B5608E8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827DB-DA8F-4CAF-9725-4A932219B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D34C-0A04-4DB6-92B2-9FA8654556D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2C667-2FD4-4206-AC1B-39961E0922E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7D4A24-27F4-4ACB-83CA-8E847E24C53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D7DF05-2058-42F5-BD02-487E2DA0DC6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911F8-E8E1-4DBB-B6F6-91F93705A38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41C4B0-6E80-4AB2-8800-8F7C8719337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A388F-427B-43E1-AF41-910071C9AAC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859020-84D8-48E3-98E2-F84CA81523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6393D-3A2B-4711-8F86-1C0474BA36E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135080-F543-412A-A057-B8C7BAD02D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F243C2-86A8-494D-8E14-80AFC471B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04F0E-8CBC-4C9F-AF1E-A2B8765D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D1971-5F26-4852-8A63-51E324043C1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A2D7F6-574D-44B6-8FFF-8C528531C9B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740C6B-7703-4490-A946-7C7413991C8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BE896-8BA0-4BA1-BFCA-88CC3937BDD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63E44-B771-480C-BDBB-A7F3C07BB58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25A0B-E3D1-41E6-983D-28D9D0D9FD4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14BFF-3012-46E2-95F5-765DA583220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A5D15-94B0-41AE-9F92-CA6F80970C8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0D3C4-3E59-48E9-B08F-DBCB928FDE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A8410-BB62-4A18-A3E4-F83416D05A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AC98C-F933-42C9-AA6C-94B30B96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28128-318E-4958-A8C3-EAC4ADE4659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313F4-A5A4-46C4-9131-455318EE422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5736D-857D-4162-97EC-472CCA6A67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B74B4-F359-45BA-BA28-BF40BC0053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E23C7-DEF6-4752-866C-DF6FD690FC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EBA94-1A11-4A05-ADD3-02EDA8C4EF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F2233-441B-40CC-BEB5-1E27614D2F3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CDCBA-92C3-42D1-86B5-9A4B23C7A4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83FF6-30B7-45D6-93EA-BD969B6DB02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710D0-CEF3-45CE-91E4-B9B76661A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56FB4-A13F-42E7-B992-BB1F4572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FCDB5-CE09-4E30-B6BC-1AEA3D59628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D8C23-0267-462E-98B1-6F8C1BD1CCD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A41CB-5715-430B-8250-253E41E62C1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F0CE1-EC1E-4828-BCA0-B329C4C93E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AF7F5-4CD6-46D1-ABD1-177A6B2AFE2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77F9D-B9AF-45F8-867F-6CD6C0E254E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69CF5-CA9E-410E-A0AB-CBB08D1B19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74813-087A-48BE-9CA5-D4A04ACC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FF4D8-3C32-49DF-AEAA-3D62CB68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A03D7-A411-4C75-AA27-0273D05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E71EE-A0EE-4CC9-9AB0-54AA8CB5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6D2F-F1DC-4BF7-A12C-FC8ECCDC1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3363-AF47-42AD-8037-FA5B603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581E6-80F2-4E53-951D-F178AAE7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76F5B-8E49-41D8-A950-EB95E43E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DF8CA-19DE-42A7-9C25-FF2594C9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10B69-DF47-451B-B661-5D581BC6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DCC3D-AA15-4A06-8F31-D2975FA0DD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A2793-5380-4C96-B3DD-E58A463BB5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DA7DB-66B9-45B5-8293-BFFFE0C36E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4B37F-E77D-4CB5-95BC-31A2068AD1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37362F-F062-4296-9F60-16644B1C6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ED51-6ACB-4DCC-95D6-9528C702DE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45FAA-2B67-4C72-8423-95B9ECB09B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95DEE-B115-46DA-A320-9C4BD5D6F8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455B1-3617-4F63-8497-98F38F4903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A5B97-E0F1-4B09-9E44-CC8A7D8B04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A2A66-EE9E-4184-B05E-738FDBEF65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99943-8161-465D-96EB-85ECCCC9E9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57711-1A1C-4FE1-A194-E086F326E0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036F-A774-48C8-BE46-F2E625C199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8467-28E0-43E6-B34F-F34CC9F071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AA0A-5531-48D6-861F-AD5FE7A51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2FFB-3FC2-4617-9FD6-69419FBEE5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10A7-4290-44EF-A4B1-909A535FF3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AE84-B0BF-486D-A184-4322367E61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93CA-EF25-496E-8DB4-D08170BBA2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04A8-1C0C-4BB8-94D4-B2FF351FDA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1BD6-3F1F-46DB-96FF-EC211D9173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B4BC-CB20-4142-9ED9-BD9EA2096C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30C70-38A2-43A9-8CBE-4BC86BE0DD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0BDE-365A-4B93-B6F5-B6F3EAD4F4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928C-68FA-44FD-8CA1-2284EE0BFD5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049E5-46B1-4A9B-8B7A-2CC3B6D97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591C-DF1A-40F1-AAC1-F9E21A7105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BE694-97FA-48EB-86AB-FBA82FFABF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B4138-D9E9-4E52-8338-C73381DCF61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EA1FF-3E2A-468D-863E-D3F4E119A3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2CFEA-512F-4B7D-B6D7-43B960EA7A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F825C-6442-490A-8ACF-605191CCEE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53712-AEB9-4EA1-8036-18B752F49F8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E7F86-B8D8-43F6-BA7D-A5676CB5E0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7B226-83F6-4F7C-BA10-2D88888F37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B81B4-1A71-46BA-8C4C-940BF9349EE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58A4B-D1B0-414E-B07B-B7263A386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0DFA-5C8A-49B6-A65F-2D41BE1CB0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32B3A-D978-4259-997A-43DAE491C90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EAB42F-AA5C-4A5E-B734-66B03BFB1B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E8768B-B74B-429B-802E-C60D9A2EB6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B623A-0B0F-406A-BB85-D21FDA68F1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7B3C1-3152-4C3D-A73C-4CA7B8D6C4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2578C-6633-417D-B7BD-F93F22DBE0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91A0B0-5FF9-4612-93CC-ADF77810165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CB4F4C-622B-4F94-81E0-3E5CD4EB6C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B7C63E-F048-45EE-9DDA-F71A9803F34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C16D86-D77E-43B8-8F31-82130E16F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86FD-E72D-4ED6-881E-C97B7A42475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5A00C-E119-4E5B-AE8A-EA4F030BE6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0D9E40-DADB-465F-A3E7-457F6EFF04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A5908B-D057-4DE3-AA7E-5B5558F3E0A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6EE7-33B6-437A-9B72-2926D6802C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C3C9B-E481-43C9-8B56-D6E141F2FD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E96A4-884A-4452-B45C-95A0822F339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31AC-CC4E-482E-B8D4-0445B5FE0A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C3CAC-9EB9-4BB2-81F3-682FAB9A912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9B33-D5B3-41E8-960F-6A17967FF0E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D17E-5F88-4BDB-9F46-12DABD3AF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F7B6-7381-4115-8411-1AAC163F7E0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D6A04-C68C-479E-B5E9-06CC9B4000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3409B-7C1B-4F64-9283-C574C79C0E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3286-5D00-4C3C-BB82-4AC3CD1838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AFCC-068D-4813-AC44-56D97A7856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D2B4F-4591-454B-9B84-7313E82A17F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DC88F-215A-43BD-B4C0-C8467620340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68D10-DC68-44C2-8F8E-0755F28C523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268C2-B15D-4681-B639-8AA919A456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05F58-C381-4CEB-B769-7B431537C0A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FA6AA-01FD-41A4-91E8-14941C208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8CC4-1753-4FDE-89B0-7EB3DFA74E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C4BE9-0B97-429D-B76A-AC0FF5F6D5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0F02A-968A-4AC8-9D5C-463D9E4332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F8170-0A1F-45B0-AC9D-CB0C0B23DD0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7A121-0C31-4F44-9394-295E4FCE2D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3C49F-094C-402B-A176-D51CA13AA3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9BBCC-71AC-417F-8533-C59431A8E1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D4C24-DC87-4DF7-996D-64F6A7F2437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4D3BEE-E24A-49D5-8163-5B9230B7F5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3D2E97-2CEA-4348-9C29-383439B71B9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C9A1FB-D914-4DD2-BB62-A3943CC60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1D88CC26-77EE-4A5D-86FE-CC19F2A1B94D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20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5DD68BBA-8B97-4612-A276-27008B1BE238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2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FE66703C-7896-4DBE-86BE-921CB3E0729A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4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5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33EC3808-0E6D-4E5E-98BC-74EF8449E161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6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7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1299EF41-44D0-4C44-9E8E-DC96E2913D50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2C7-AE62-4633-91CB-7D2F9247B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ine"/>
          <p:cNvPicPr/>
          <p:nvPr/>
        </p:nvPicPr>
        <p:blipFill>
          <a:blip r:embed="rId3"/>
          <a:stretch/>
        </p:blipFill>
        <p:spPr>
          <a:xfrm>
            <a:off x="304920" y="2819520"/>
            <a:ext cx="8458200" cy="95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6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8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9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F1C26F3A-6EFB-415B-B0EF-167EF80232F8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0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1D9AB9D9-BC3F-4A44-96E7-A5ABEEC22FF2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2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517C5103-E817-4F89-A3A9-106D0E956AD1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4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9FC948F7-A5B3-4212-A831-CD57CDAE7343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6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9C439DA3-5ACE-4568-9ACE-964E45E81A3C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8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9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19E37896-45F9-45B4-8528-0E3ADFA31A2D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c.center@gm.com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1905120" y="5715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rebuchet MS"/>
              </a:rPr>
              <a:t>2009 </a:t>
            </a:r>
            <a:r>
              <a:rPr b="1" i="1" lang="en-US" sz="1800" spc="-1" strike="noStrike">
                <a:solidFill>
                  <a:srgbClr val="ff3399"/>
                </a:solidFill>
                <a:latin typeface="Trebuchet MS"/>
              </a:rPr>
              <a:t>FIRST</a:t>
            </a:r>
            <a:r>
              <a:rPr b="1" lang="en-US" sz="1800" spc="-1" strike="noStrike">
                <a:solidFill>
                  <a:srgbClr val="ff3399"/>
                </a:solidFill>
                <a:latin typeface="Trebuchet MS"/>
              </a:rPr>
              <a:t> Robotics Conference – Atlanta, GA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bf"/>
                </a:solidFill>
                <a:latin typeface="Trebuchet MS"/>
              </a:rPr>
              <a:t>PI Closed-Loop Control</a:t>
            </a:r>
            <a:r>
              <a:rPr b="1" lang="en-US" sz="3400" spc="-1" strike="noStrike">
                <a:solidFill>
                  <a:srgbClr val="7030a0"/>
                </a:solidFill>
                <a:latin typeface="Trebuchet MS"/>
              </a:rPr>
              <a:t>, using </a:t>
            </a:r>
            <a:r>
              <a:rPr b="1" lang="en-US" sz="3400" spc="-1" strike="noStrike">
                <a:solidFill>
                  <a:srgbClr val="00b050"/>
                </a:solidFill>
                <a:latin typeface="Trebuchet MS"/>
              </a:rPr>
              <a:t>VEX</a:t>
            </a:r>
            <a:r>
              <a:rPr b="1" lang="en-US" sz="3400" spc="-1" strike="noStrike">
                <a:solidFill>
                  <a:srgbClr val="7030a0"/>
                </a:solidFill>
                <a:latin typeface="Trebuchet MS"/>
              </a:rPr>
              <a:t> and </a:t>
            </a:r>
            <a:r>
              <a:rPr b="1" lang="en-US" sz="3400" spc="-1" strike="noStrike">
                <a:solidFill>
                  <a:srgbClr val="d60093"/>
                </a:solidFill>
                <a:latin typeface="Trebuchet MS"/>
              </a:rPr>
              <a:t>Easy-C Pro</a:t>
            </a:r>
            <a:r>
              <a:rPr b="1" lang="en-US" sz="3400" spc="-1" strike="noStrike">
                <a:solidFill>
                  <a:srgbClr val="7030a0"/>
                </a:solidFill>
                <a:latin typeface="Trebuchet MS"/>
              </a:rPr>
              <a:t>, for high school students and coaches 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142640" y="312408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rebuchet MS"/>
              </a:rPr>
              <a:t>Presented by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rebuchet MS"/>
              </a:rPr>
              <a:t>Marc Center, GM Hybrid Powertrain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99"/>
                </a:solidFill>
                <a:latin typeface="Trebuchet MS"/>
              </a:rPr>
              <a:t>2009 Chief Delphi FRC 47 Engineering Mentor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Trebuchet MS"/>
                <a:hlinkClick r:id="rId1"/>
              </a:rPr>
              <a:t>marc.center@gm.com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500" spc="-1" strike="noStrike">
                <a:solidFill>
                  <a:srgbClr val="009900"/>
                </a:solidFill>
                <a:latin typeface="Trebuchet MS"/>
              </a:rPr>
              <a:t>248-255-7377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Trebuchet MS"/>
              </a:rPr>
              <a:t>Version 6 – April 8, 2009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ounded Rectangle 67"/>
          <p:cNvSpPr/>
          <p:nvPr/>
        </p:nvSpPr>
        <p:spPr>
          <a:xfrm>
            <a:off x="457200" y="1981080"/>
            <a:ext cx="8077320" cy="4343400"/>
          </a:xfrm>
          <a:prstGeom prst="roundRect">
            <a:avLst>
              <a:gd name="adj" fmla="val 16667"/>
            </a:avLst>
          </a:prstGeom>
          <a:solidFill>
            <a:srgbClr val="a3e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Rounded Rectangle 68"/>
          <p:cNvSpPr/>
          <p:nvPr/>
        </p:nvSpPr>
        <p:spPr>
          <a:xfrm>
            <a:off x="762120" y="1828800"/>
            <a:ext cx="6019560" cy="4648320"/>
          </a:xfrm>
          <a:prstGeom prst="roundRect">
            <a:avLst>
              <a:gd name="adj" fmla="val 16667"/>
            </a:avLst>
          </a:prstGeom>
          <a:solidFill>
            <a:srgbClr val="ff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Footer Placeholder 3"/>
          <p:cNvSpPr/>
          <p:nvPr/>
        </p:nvSpPr>
        <p:spPr>
          <a:xfrm>
            <a:off x="45720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7030a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7030a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rebuchet MS"/>
              </a:rPr>
              <a:t>1C    Robot Platform – Vex Robo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Straight Connector 19"/>
          <p:cNvSpPr/>
          <p:nvPr/>
        </p:nvSpPr>
        <p:spPr>
          <a:xfrm flipV="1">
            <a:off x="8627400" y="4098960"/>
            <a:ext cx="515880" cy="59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Rounded Rectangle 42"/>
          <p:cNvSpPr/>
          <p:nvPr/>
        </p:nvSpPr>
        <p:spPr>
          <a:xfrm>
            <a:off x="609480" y="1981080"/>
            <a:ext cx="4267440" cy="43434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4343400"/>
              <a:gd name="textAreaBottom" fmla="*/ 4135320 h 4343400"/>
            </a:gdLst>
            <a:ahLst/>
            <a:rect l="textAreaLeft" t="textAreaTop" r="textAreaRight" b="textAreaBottom"/>
            <a:pathLst>
              <a:path w="21600" h="21984">
                <a:moveTo>
                  <a:pt x="3600" y="0"/>
                </a:moveTo>
                <a:arcTo wR="3600" hR="3600" stAng="16200000" swAng="-5400000"/>
                <a:lnTo>
                  <a:pt x="0" y="18384"/>
                </a:lnTo>
                <a:arcTo wR="3600" hR="3600" stAng="10800000" swAng="-5400000"/>
                <a:lnTo>
                  <a:pt x="18000" y="21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aa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621" name="Group 32"/>
          <p:cNvGrpSpPr/>
          <p:nvPr/>
        </p:nvGrpSpPr>
        <p:grpSpPr>
          <a:xfrm>
            <a:off x="990720" y="2117880"/>
            <a:ext cx="1406520" cy="3749400"/>
            <a:chOff x="990720" y="2117880"/>
            <a:chExt cx="1406520" cy="3749400"/>
          </a:xfrm>
        </p:grpSpPr>
        <p:sp>
          <p:nvSpPr>
            <p:cNvPr id="622" name="Straight Connector 30"/>
            <p:cNvSpPr/>
            <p:nvPr/>
          </p:nvSpPr>
          <p:spPr>
            <a:xfrm flipH="1">
              <a:off x="1693440" y="2586600"/>
              <a:ext cx="1080" cy="8787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3" name="Straight Connector 28"/>
            <p:cNvSpPr/>
            <p:nvPr/>
          </p:nvSpPr>
          <p:spPr>
            <a:xfrm flipH="1">
              <a:off x="1693440" y="4519800"/>
              <a:ext cx="1080" cy="8787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4" name="Rounded Rectangle 3"/>
            <p:cNvSpPr/>
            <p:nvPr/>
          </p:nvSpPr>
          <p:spPr>
            <a:xfrm>
              <a:off x="990720" y="2703600"/>
              <a:ext cx="1406520" cy="46836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5" name="Rounded Rectangle 8"/>
            <p:cNvSpPr/>
            <p:nvPr/>
          </p:nvSpPr>
          <p:spPr>
            <a:xfrm>
              <a:off x="990720" y="2117880"/>
              <a:ext cx="1406520" cy="4683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6" name="Rounded Rectangle 9"/>
            <p:cNvSpPr/>
            <p:nvPr/>
          </p:nvSpPr>
          <p:spPr>
            <a:xfrm>
              <a:off x="990720" y="5398920"/>
              <a:ext cx="1406520" cy="4683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7" name="Rounded Rectangle 11"/>
            <p:cNvSpPr/>
            <p:nvPr/>
          </p:nvSpPr>
          <p:spPr>
            <a:xfrm>
              <a:off x="990720" y="4812840"/>
              <a:ext cx="1406520" cy="46836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8" name="Rounded Rectangle 16"/>
            <p:cNvSpPr/>
            <p:nvPr/>
          </p:nvSpPr>
          <p:spPr>
            <a:xfrm>
              <a:off x="1049040" y="340668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9" name="Rounded Rectangle 17"/>
            <p:cNvSpPr/>
            <p:nvPr/>
          </p:nvSpPr>
          <p:spPr>
            <a:xfrm>
              <a:off x="1049040" y="416844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0" name="TextBox 32"/>
            <p:cNvSpPr/>
            <p:nvPr/>
          </p:nvSpPr>
          <p:spPr>
            <a:xfrm>
              <a:off x="1038600" y="2117880"/>
              <a:ext cx="125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1" name="TextBox 33"/>
            <p:cNvSpPr/>
            <p:nvPr/>
          </p:nvSpPr>
          <p:spPr>
            <a:xfrm>
              <a:off x="1038600" y="5394240"/>
              <a:ext cx="125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2" name="TextBox 34"/>
            <p:cNvSpPr/>
            <p:nvPr/>
          </p:nvSpPr>
          <p:spPr>
            <a:xfrm>
              <a:off x="1179360" y="3363840"/>
              <a:ext cx="988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3" name="TextBox 35"/>
            <p:cNvSpPr/>
            <p:nvPr/>
          </p:nvSpPr>
          <p:spPr>
            <a:xfrm>
              <a:off x="1179360" y="4125960"/>
              <a:ext cx="988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4" name="TextBox 38"/>
            <p:cNvSpPr/>
            <p:nvPr/>
          </p:nvSpPr>
          <p:spPr>
            <a:xfrm>
              <a:off x="1149840" y="2678040"/>
              <a:ext cx="99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5" name="TextBox 39"/>
            <p:cNvSpPr/>
            <p:nvPr/>
          </p:nvSpPr>
          <p:spPr>
            <a:xfrm>
              <a:off x="1129320" y="4784760"/>
              <a:ext cx="99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636" name="Group 31"/>
          <p:cNvGrpSpPr/>
          <p:nvPr/>
        </p:nvGrpSpPr>
        <p:grpSpPr>
          <a:xfrm>
            <a:off x="3200400" y="2703600"/>
            <a:ext cx="1406520" cy="2577960"/>
            <a:chOff x="3200400" y="2703600"/>
            <a:chExt cx="1406520" cy="2577960"/>
          </a:xfrm>
        </p:grpSpPr>
        <p:sp>
          <p:nvSpPr>
            <p:cNvPr id="637" name="Straight Connector 19"/>
            <p:cNvSpPr/>
            <p:nvPr/>
          </p:nvSpPr>
          <p:spPr>
            <a:xfrm>
              <a:off x="3903840" y="3172320"/>
              <a:ext cx="58320" cy="29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8" name="Straight Connector 27"/>
            <p:cNvSpPr/>
            <p:nvPr/>
          </p:nvSpPr>
          <p:spPr>
            <a:xfrm flipH="1">
              <a:off x="3903120" y="4402800"/>
              <a:ext cx="1080" cy="644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9" name="Straight Connector 21"/>
            <p:cNvSpPr/>
            <p:nvPr/>
          </p:nvSpPr>
          <p:spPr>
            <a:xfrm flipH="1">
              <a:off x="3903120" y="2996280"/>
              <a:ext cx="1080" cy="644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0" name="Rounded Rectangle 12"/>
            <p:cNvSpPr/>
            <p:nvPr/>
          </p:nvSpPr>
          <p:spPr>
            <a:xfrm>
              <a:off x="3200400" y="4812840"/>
              <a:ext cx="1406520" cy="468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1" name="Rounded Rectangle 13"/>
            <p:cNvSpPr/>
            <p:nvPr/>
          </p:nvSpPr>
          <p:spPr>
            <a:xfrm>
              <a:off x="3200400" y="2703600"/>
              <a:ext cx="1406520" cy="468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2" name="Rounded Rectangle 14"/>
            <p:cNvSpPr/>
            <p:nvPr/>
          </p:nvSpPr>
          <p:spPr>
            <a:xfrm>
              <a:off x="3258720" y="346536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3" name="Rounded Rectangle 15"/>
            <p:cNvSpPr/>
            <p:nvPr/>
          </p:nvSpPr>
          <p:spPr>
            <a:xfrm>
              <a:off x="3258720" y="416844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644" name="Group 30"/>
            <p:cNvGrpSpPr/>
            <p:nvPr/>
          </p:nvGrpSpPr>
          <p:grpSpPr>
            <a:xfrm>
              <a:off x="3399480" y="2727000"/>
              <a:ext cx="1023840" cy="2486880"/>
              <a:chOff x="3399480" y="2727000"/>
              <a:chExt cx="1023840" cy="2486880"/>
            </a:xfrm>
          </p:grpSpPr>
          <p:sp>
            <p:nvSpPr>
              <p:cNvPr id="645" name="TextBox 36"/>
              <p:cNvSpPr/>
              <p:nvPr/>
            </p:nvSpPr>
            <p:spPr>
              <a:xfrm>
                <a:off x="3399480" y="3439800"/>
                <a:ext cx="98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Motor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46" name="TextBox 37"/>
              <p:cNvSpPr/>
              <p:nvPr/>
            </p:nvSpPr>
            <p:spPr>
              <a:xfrm>
                <a:off x="3399480" y="4174920"/>
                <a:ext cx="98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Motor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47" name="TextBox 40"/>
              <p:cNvSpPr/>
              <p:nvPr/>
            </p:nvSpPr>
            <p:spPr>
              <a:xfrm>
                <a:off x="3425760" y="2727000"/>
                <a:ext cx="997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Wheel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48" name="TextBox 41"/>
              <p:cNvSpPr/>
              <p:nvPr/>
            </p:nvSpPr>
            <p:spPr>
              <a:xfrm>
                <a:off x="3425760" y="4784760"/>
                <a:ext cx="997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Wheel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49" name="Group 33"/>
          <p:cNvGrpSpPr/>
          <p:nvPr/>
        </p:nvGrpSpPr>
        <p:grpSpPr>
          <a:xfrm>
            <a:off x="5070600" y="2727360"/>
            <a:ext cx="1406520" cy="2577960"/>
            <a:chOff x="5070600" y="2727360"/>
            <a:chExt cx="1406520" cy="2577960"/>
          </a:xfrm>
        </p:grpSpPr>
        <p:sp>
          <p:nvSpPr>
            <p:cNvPr id="650" name="Straight Connector 19"/>
            <p:cNvSpPr/>
            <p:nvPr/>
          </p:nvSpPr>
          <p:spPr>
            <a:xfrm>
              <a:off x="5774040" y="3196080"/>
              <a:ext cx="58320" cy="29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1" name="Straight Connector 27"/>
            <p:cNvSpPr/>
            <p:nvPr/>
          </p:nvSpPr>
          <p:spPr>
            <a:xfrm flipH="1">
              <a:off x="5773320" y="4426560"/>
              <a:ext cx="1080" cy="644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2" name="Straight Connector 21"/>
            <p:cNvSpPr/>
            <p:nvPr/>
          </p:nvSpPr>
          <p:spPr>
            <a:xfrm flipH="1">
              <a:off x="5773320" y="3020040"/>
              <a:ext cx="1080" cy="644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3" name="Rounded Rectangle 12"/>
            <p:cNvSpPr/>
            <p:nvPr/>
          </p:nvSpPr>
          <p:spPr>
            <a:xfrm>
              <a:off x="5070600" y="4836600"/>
              <a:ext cx="1406520" cy="468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4" name="Rounded Rectangle 13"/>
            <p:cNvSpPr/>
            <p:nvPr/>
          </p:nvSpPr>
          <p:spPr>
            <a:xfrm>
              <a:off x="5070600" y="2727360"/>
              <a:ext cx="1406520" cy="468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5" name="Rounded Rectangle 14"/>
            <p:cNvSpPr/>
            <p:nvPr/>
          </p:nvSpPr>
          <p:spPr>
            <a:xfrm>
              <a:off x="5128920" y="348912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ounded Rectangle 15"/>
            <p:cNvSpPr/>
            <p:nvPr/>
          </p:nvSpPr>
          <p:spPr>
            <a:xfrm>
              <a:off x="5128920" y="419220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657" name="Group 30"/>
            <p:cNvGrpSpPr/>
            <p:nvPr/>
          </p:nvGrpSpPr>
          <p:grpSpPr>
            <a:xfrm>
              <a:off x="5269680" y="2750760"/>
              <a:ext cx="988560" cy="2486880"/>
              <a:chOff x="5269680" y="2750760"/>
              <a:chExt cx="988560" cy="2486880"/>
            </a:xfrm>
          </p:grpSpPr>
          <p:sp>
            <p:nvSpPr>
              <p:cNvPr id="658" name="TextBox 36"/>
              <p:cNvSpPr/>
              <p:nvPr/>
            </p:nvSpPr>
            <p:spPr>
              <a:xfrm>
                <a:off x="5269680" y="3463560"/>
                <a:ext cx="98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Motor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59" name="TextBox 37"/>
              <p:cNvSpPr/>
              <p:nvPr/>
            </p:nvSpPr>
            <p:spPr>
              <a:xfrm>
                <a:off x="5269680" y="4198680"/>
                <a:ext cx="98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Motor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60" name="TextBox 40"/>
              <p:cNvSpPr/>
              <p:nvPr/>
            </p:nvSpPr>
            <p:spPr>
              <a:xfrm>
                <a:off x="5280120" y="2750760"/>
                <a:ext cx="903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mni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61" name="TextBox 41"/>
              <p:cNvSpPr/>
              <p:nvPr/>
            </p:nvSpPr>
            <p:spPr>
              <a:xfrm>
                <a:off x="5280120" y="4808520"/>
                <a:ext cx="903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mni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sp>
        <p:nvSpPr>
          <p:cNvPr id="662" name="Oval 61"/>
          <p:cNvSpPr/>
          <p:nvPr/>
        </p:nvSpPr>
        <p:spPr>
          <a:xfrm>
            <a:off x="6858000" y="3276720"/>
            <a:ext cx="1646280" cy="1646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TextBox 41"/>
          <p:cNvSpPr/>
          <p:nvPr/>
        </p:nvSpPr>
        <p:spPr>
          <a:xfrm>
            <a:off x="6920640" y="38862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all Cast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TextBox 64"/>
          <p:cNvSpPr/>
          <p:nvPr/>
        </p:nvSpPr>
        <p:spPr>
          <a:xfrm>
            <a:off x="3124080" y="5486400"/>
            <a:ext cx="152424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Version 1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TextBox 65"/>
          <p:cNvSpPr/>
          <p:nvPr/>
        </p:nvSpPr>
        <p:spPr>
          <a:xfrm>
            <a:off x="5029200" y="5486400"/>
            <a:ext cx="152388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Version 2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TextBox 66"/>
          <p:cNvSpPr/>
          <p:nvPr/>
        </p:nvSpPr>
        <p:spPr>
          <a:xfrm>
            <a:off x="6934320" y="5056200"/>
            <a:ext cx="152388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Version 3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3"/>
          <p:cNvSpPr/>
          <p:nvPr/>
        </p:nvSpPr>
        <p:spPr>
          <a:xfrm>
            <a:off x="1600200" y="6019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7030a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7030a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rebuchet MS"/>
              </a:rPr>
              <a:t>1D    Robot Platform – Vex Robo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69" name="Group 58"/>
          <p:cNvGrpSpPr/>
          <p:nvPr/>
        </p:nvGrpSpPr>
        <p:grpSpPr>
          <a:xfrm>
            <a:off x="4800600" y="2286000"/>
            <a:ext cx="4229640" cy="2895480"/>
            <a:chOff x="4800600" y="2286000"/>
            <a:chExt cx="4229640" cy="2895480"/>
          </a:xfrm>
        </p:grpSpPr>
        <p:sp>
          <p:nvSpPr>
            <p:cNvPr id="670" name="Rounded Rectangle 42"/>
            <p:cNvSpPr/>
            <p:nvPr/>
          </p:nvSpPr>
          <p:spPr>
            <a:xfrm>
              <a:off x="4800600" y="2286000"/>
              <a:ext cx="2930400" cy="2895480"/>
            </a:xfrm>
            <a:prstGeom prst="roundRect">
              <a:avLst>
                <a:gd name="adj" fmla="val 16667"/>
              </a:avLst>
            </a:prstGeom>
            <a:solidFill>
              <a:srgbClr val="aa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1" name="Straight Connector 30"/>
            <p:cNvSpPr/>
            <p:nvPr/>
          </p:nvSpPr>
          <p:spPr>
            <a:xfrm flipH="1">
              <a:off x="5603760" y="2719800"/>
              <a:ext cx="720" cy="630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2" name="Straight Connector 28"/>
            <p:cNvSpPr/>
            <p:nvPr/>
          </p:nvSpPr>
          <p:spPr>
            <a:xfrm flipH="1">
              <a:off x="5603760" y="4106160"/>
              <a:ext cx="720" cy="630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3" name="Rounded Rectangle 3"/>
            <p:cNvSpPr/>
            <p:nvPr/>
          </p:nvSpPr>
          <p:spPr>
            <a:xfrm>
              <a:off x="5082840" y="2803680"/>
              <a:ext cx="1041840" cy="33588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4" name="Rounded Rectangle 8"/>
            <p:cNvSpPr/>
            <p:nvPr/>
          </p:nvSpPr>
          <p:spPr>
            <a:xfrm>
              <a:off x="5082840" y="2383560"/>
              <a:ext cx="1041840" cy="335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5" name="Rounded Rectangle 9"/>
            <p:cNvSpPr/>
            <p:nvPr/>
          </p:nvSpPr>
          <p:spPr>
            <a:xfrm>
              <a:off x="5082840" y="4736160"/>
              <a:ext cx="1041840" cy="335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6" name="Rounded Rectangle 11"/>
            <p:cNvSpPr/>
            <p:nvPr/>
          </p:nvSpPr>
          <p:spPr>
            <a:xfrm>
              <a:off x="5082840" y="4316040"/>
              <a:ext cx="1041840" cy="33588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7" name="Rounded Rectangle 16"/>
            <p:cNvSpPr/>
            <p:nvPr/>
          </p:nvSpPr>
          <p:spPr>
            <a:xfrm>
              <a:off x="5126400" y="3308040"/>
              <a:ext cx="911880" cy="2937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8" name="Rounded Rectangle 17"/>
            <p:cNvSpPr/>
            <p:nvPr/>
          </p:nvSpPr>
          <p:spPr>
            <a:xfrm>
              <a:off x="5126400" y="3854160"/>
              <a:ext cx="911880" cy="2937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9" name="TextBox 32"/>
            <p:cNvSpPr/>
            <p:nvPr/>
          </p:nvSpPr>
          <p:spPr>
            <a:xfrm>
              <a:off x="5066280" y="238356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0" name="TextBox 33"/>
            <p:cNvSpPr/>
            <p:nvPr/>
          </p:nvSpPr>
          <p:spPr>
            <a:xfrm>
              <a:off x="5066280" y="473328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1" name="TextBox 34"/>
            <p:cNvSpPr/>
            <p:nvPr/>
          </p:nvSpPr>
          <p:spPr>
            <a:xfrm>
              <a:off x="5181120" y="327744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2" name="TextBox 35"/>
            <p:cNvSpPr/>
            <p:nvPr/>
          </p:nvSpPr>
          <p:spPr>
            <a:xfrm>
              <a:off x="5181120" y="38235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3" name="TextBox 38"/>
            <p:cNvSpPr/>
            <p:nvPr/>
          </p:nvSpPr>
          <p:spPr>
            <a:xfrm>
              <a:off x="5158440" y="27856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4" name="TextBox 39"/>
            <p:cNvSpPr/>
            <p:nvPr/>
          </p:nvSpPr>
          <p:spPr>
            <a:xfrm>
              <a:off x="5143320" y="42962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5" name="Oval 61"/>
            <p:cNvSpPr/>
            <p:nvPr/>
          </p:nvSpPr>
          <p:spPr>
            <a:xfrm>
              <a:off x="7731000" y="3050640"/>
              <a:ext cx="1219680" cy="11800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6" name="TextBox 41"/>
            <p:cNvSpPr/>
            <p:nvPr/>
          </p:nvSpPr>
          <p:spPr>
            <a:xfrm>
              <a:off x="7705080" y="350496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Ball Caste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7" name="TextBox 66"/>
            <p:cNvSpPr/>
            <p:nvPr/>
          </p:nvSpPr>
          <p:spPr>
            <a:xfrm>
              <a:off x="6405120" y="4263480"/>
              <a:ext cx="11293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Version 3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88" name="TextBox 55"/>
          <p:cNvSpPr/>
          <p:nvPr/>
        </p:nvSpPr>
        <p:spPr>
          <a:xfrm>
            <a:off x="457200" y="2133720"/>
            <a:ext cx="403848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Mechanical Design impacts Robot Controllabili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Regular VEX wheels, VEX Omni wheels had too 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side forces or “scrub” to work wel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buClr>
                <a:srgbClr val="d6009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rebuchet MS"/>
              </a:rPr>
              <a:t>Polulu,1 inch Ball Caster used on Vex rob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2  Software Platform – Easy-C Pro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91" name="Picture 5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5"/>
          <p:cNvSpPr/>
          <p:nvPr/>
        </p:nvSpPr>
        <p:spPr>
          <a:xfrm>
            <a:off x="2057400" y="51055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Easy-C Pro Version 3.1.0.9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3A   Motor Control – PWM (Pulse Width Modulation) </a:t>
            </a:r>
            <a:r>
              <a:rPr b="1" lang="en-US" sz="2400" spc="-1" strike="noStrike">
                <a:solidFill>
                  <a:srgbClr val="009900"/>
                </a:solidFill>
                <a:latin typeface="Trebuchet MS"/>
              </a:rPr>
              <a:t>– 1.25 ms, 1.50 ms, 1.75 m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95" name="Picture 4" descr="servo motor control with feedback potentiometer and gearbox"/>
          <p:cNvPicPr/>
          <p:nvPr/>
        </p:nvPicPr>
        <p:blipFill>
          <a:blip r:embed="rId1"/>
          <a:stretch/>
        </p:blipFill>
        <p:spPr>
          <a:xfrm>
            <a:off x="5715000" y="2057400"/>
            <a:ext cx="2295360" cy="17431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servo control using pulse width modulation"/>
          <p:cNvPicPr/>
          <p:nvPr/>
        </p:nvPicPr>
        <p:blipFill>
          <a:blip r:embed="rId2"/>
          <a:stretch/>
        </p:blipFill>
        <p:spPr>
          <a:xfrm>
            <a:off x="457200" y="2057400"/>
            <a:ext cx="3990960" cy="3152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rc servo with potentiometer feedback and pulse width modulation control system"/>
          <p:cNvPicPr/>
          <p:nvPr/>
        </p:nvPicPr>
        <p:blipFill>
          <a:blip r:embed="rId3"/>
          <a:stretch/>
        </p:blipFill>
        <p:spPr>
          <a:xfrm>
            <a:off x="5867280" y="4038480"/>
            <a:ext cx="1524240" cy="13338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7" descr="servo control modifications for robotic control systems"/>
          <p:cNvPicPr/>
          <p:nvPr/>
        </p:nvPicPr>
        <p:blipFill>
          <a:blip r:embed="rId4"/>
          <a:stretch/>
        </p:blipFill>
        <p:spPr>
          <a:xfrm>
            <a:off x="0" y="0"/>
            <a:ext cx="371520" cy="7430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8"/>
          <p:cNvSpPr/>
          <p:nvPr/>
        </p:nvSpPr>
        <p:spPr>
          <a:xfrm>
            <a:off x="1676520" y="541008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buClr>
                <a:srgbClr val="ff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rebuchet MS"/>
              </a:rPr>
              <a:t>Acknowledgement : PC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Trebuchet MS"/>
              </a:rPr>
              <a:t>Control Limited is registered in England: Company Number 6805692      Registered Office: 8 Davis Close, Rothwell, Kettering, Northants, NN14 6TY.  Tel 0121-288-7403 -</a:t>
            </a:r>
            <a:br>
              <a:rPr sz="1200"/>
            </a:br>
            <a:r>
              <a:rPr b="0" lang="en-US" sz="1200" spc="-1" strike="noStrike">
                <a:solidFill>
                  <a:srgbClr val="ff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3B   Motor Control – PWM (0, 127, 254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285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4A  Motor Control – PWM (54, 127, 200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48006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4B  Motor Control – PWM (54, 127, 200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Footer Placeholder 3"/>
          <p:cNvSpPr/>
          <p:nvPr/>
        </p:nvSpPr>
        <p:spPr>
          <a:xfrm>
            <a:off x="0" y="5029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08" name="Picture 7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58200" cy="591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3289320" cy="9907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9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1679400" cy="9907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0" descr=""/>
          <p:cNvPicPr/>
          <p:nvPr/>
        </p:nvPicPr>
        <p:blipFill>
          <a:blip r:embed="rId4"/>
          <a:stretch/>
        </p:blipFill>
        <p:spPr>
          <a:xfrm>
            <a:off x="6629400" y="4419720"/>
            <a:ext cx="1371600" cy="9126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1" descr=""/>
          <p:cNvPicPr/>
          <p:nvPr/>
        </p:nvPicPr>
        <p:blipFill>
          <a:blip r:embed="rId5"/>
          <a:stretch/>
        </p:blipFill>
        <p:spPr>
          <a:xfrm>
            <a:off x="7391520" y="5257800"/>
            <a:ext cx="1322280" cy="10652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2" descr=""/>
          <p:cNvPicPr/>
          <p:nvPr/>
        </p:nvPicPr>
        <p:blipFill>
          <a:blip r:embed="rId6"/>
          <a:stretch/>
        </p:blipFill>
        <p:spPr>
          <a:xfrm>
            <a:off x="1905120" y="3429000"/>
            <a:ext cx="1828800" cy="10065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3" descr=""/>
          <p:cNvPicPr/>
          <p:nvPr/>
        </p:nvPicPr>
        <p:blipFill>
          <a:blip r:embed="rId7"/>
          <a:stretch/>
        </p:blipFill>
        <p:spPr>
          <a:xfrm>
            <a:off x="1447920" y="4343400"/>
            <a:ext cx="1322280" cy="8380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4" descr=""/>
          <p:cNvPicPr/>
          <p:nvPr/>
        </p:nvPicPr>
        <p:blipFill>
          <a:blip r:embed="rId8"/>
          <a:stretch/>
        </p:blipFill>
        <p:spPr>
          <a:xfrm>
            <a:off x="685800" y="5105520"/>
            <a:ext cx="1322280" cy="1066680"/>
          </a:xfrm>
          <a:prstGeom prst="rect">
            <a:avLst/>
          </a:prstGeom>
          <a:ln w="0">
            <a:noFill/>
          </a:ln>
        </p:spPr>
      </p:pic>
      <p:cxnSp>
        <p:nvCxnSpPr>
          <p:cNvPr id="716" name="Straight Arrow Connector 21"/>
          <p:cNvCxnSpPr/>
          <p:nvPr/>
        </p:nvCxnSpPr>
        <p:spPr>
          <a:xfrm>
            <a:off x="6552720" y="2895480"/>
            <a:ext cx="1677240" cy="457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17" name="Straight Arrow Connector 23"/>
          <p:cNvCxnSpPr/>
          <p:nvPr/>
        </p:nvCxnSpPr>
        <p:spPr>
          <a:xfrm>
            <a:off x="6477120" y="2895120"/>
            <a:ext cx="1372320" cy="2520"/>
          </a:xfrm>
          <a:prstGeom prst="straightConnector1">
            <a:avLst/>
          </a:prstGeom>
          <a:ln w="0">
            <a:noFill/>
          </a:ln>
        </p:spPr>
      </p:cxnSp>
      <p:sp>
        <p:nvSpPr>
          <p:cNvPr id="718" name="Right Arrow 27"/>
          <p:cNvSpPr/>
          <p:nvPr/>
        </p:nvSpPr>
        <p:spPr>
          <a:xfrm>
            <a:off x="6858000" y="2971800"/>
            <a:ext cx="380880" cy="152280"/>
          </a:xfrm>
          <a:prstGeom prst="rightArrow">
            <a:avLst>
              <a:gd name="adj1" fmla="val 50000"/>
              <a:gd name="adj2" fmla="val 500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Right Arrow 28"/>
          <p:cNvSpPr/>
          <p:nvPr/>
        </p:nvSpPr>
        <p:spPr>
          <a:xfrm>
            <a:off x="7543800" y="3276720"/>
            <a:ext cx="914400" cy="533160"/>
          </a:xfrm>
          <a:prstGeom prst="rightArrow">
            <a:avLst>
              <a:gd name="adj1" fmla="val 50000"/>
              <a:gd name="adj2" fmla="val 500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Right Arrow 31"/>
          <p:cNvSpPr/>
          <p:nvPr/>
        </p:nvSpPr>
        <p:spPr>
          <a:xfrm rot="19912800">
            <a:off x="4343040" y="5410080"/>
            <a:ext cx="1676520" cy="381240"/>
          </a:xfrm>
          <a:prstGeom prst="rightArrow">
            <a:avLst>
              <a:gd name="adj1" fmla="val 50000"/>
              <a:gd name="adj2" fmla="val 49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Down Arrow 16"/>
          <p:cNvSpPr/>
          <p:nvPr/>
        </p:nvSpPr>
        <p:spPr>
          <a:xfrm>
            <a:off x="1143000" y="31240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TextBox 17"/>
          <p:cNvSpPr/>
          <p:nvPr/>
        </p:nvSpPr>
        <p:spPr>
          <a:xfrm>
            <a:off x="2666880" y="5486400"/>
            <a:ext cx="4114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PWM values have meaning !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Right Arrow 18"/>
          <p:cNvSpPr/>
          <p:nvPr/>
        </p:nvSpPr>
        <p:spPr>
          <a:xfrm>
            <a:off x="6400800" y="2666880"/>
            <a:ext cx="2362320" cy="7621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rebuchet MS"/>
              </a:rPr>
              <a:t>Forwar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Right Arrow 19"/>
          <p:cNvSpPr/>
          <p:nvPr/>
        </p:nvSpPr>
        <p:spPr>
          <a:xfrm>
            <a:off x="4724280" y="6095880"/>
            <a:ext cx="27432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rebuchet MS"/>
              </a:rPr>
              <a:t>Reverse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Left Arrow 20"/>
          <p:cNvSpPr/>
          <p:nvPr/>
        </p:nvSpPr>
        <p:spPr>
          <a:xfrm>
            <a:off x="380880" y="2666880"/>
            <a:ext cx="2286000" cy="6858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rebuchet MS"/>
              </a:rPr>
              <a:t>Revers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Left Arrow 23"/>
          <p:cNvSpPr/>
          <p:nvPr/>
        </p:nvSpPr>
        <p:spPr>
          <a:xfrm>
            <a:off x="1981080" y="6095880"/>
            <a:ext cx="2514600" cy="762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rebuchet MS"/>
              </a:rPr>
              <a:t>Forward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4A       VEX Encoder -  Feedbac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29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46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4B        VEX Encoder -  Feedbac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2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070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4C        VEX Encoder -  Feedbac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620120" cy="449568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1676520" y="5638680"/>
            <a:ext cx="6248160" cy="459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rebuchet MS"/>
              </a:rPr>
              <a:t>90 pulses per complete wheel revolu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bf"/>
                </a:solidFill>
                <a:latin typeface="Trebuchet MS"/>
              </a:rPr>
              <a:t>Introduction – Background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ff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99"/>
                </a:solidFill>
                <a:latin typeface="Trebuchet MS"/>
              </a:rPr>
              <a:t>Proportional-Integral-Differential Control is a basic control technique used for many closed-loop systems used in industry. 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24"/>
              </a:spcBef>
              <a:buClr>
                <a:srgbClr val="7030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rebuchet MS"/>
              </a:rPr>
              <a:t>A simple driving straight algorithm, programmed in Easy-C, has been created that implements the Prop-Integral correction. 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24"/>
              </a:spcBef>
              <a:buClr>
                <a:srgbClr val="00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Trebuchet MS"/>
              </a:rPr>
              <a:t>The VEX robot utilizes two encoders directly mounted,  modifying the motor speed variables via PI control to increase the speed using encoder feedback to assist in driving in a straight line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4D        VEX Encoder -  Feedbac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1371600" y="1981080"/>
            <a:ext cx="67816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Trebuchet MS"/>
              </a:rPr>
              <a:t>90 pulses per complete wheel revolu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Trebuchet MS"/>
              </a:rPr>
              <a:t>90 pulses / 360 degrees wheel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1 encoder pulse   /   4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70c0"/>
                </a:solidFill>
                <a:latin typeface="Trebuchet MS"/>
              </a:rPr>
              <a:t>5 encoder pulses /  2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10 encoder pulses /   4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2060"/>
                </a:solidFill>
                <a:latin typeface="Trebuchet MS"/>
              </a:rPr>
              <a:t>15 encoder pulses /   6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Trebuchet MS"/>
              </a:rPr>
              <a:t>25 encoder pulses / 10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30 encoder pulses / 12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A   Motor Control – Open-Loop  Joystick input to PWM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742" name="Group 16"/>
          <p:cNvGrpSpPr/>
          <p:nvPr/>
        </p:nvGrpSpPr>
        <p:grpSpPr>
          <a:xfrm>
            <a:off x="304920" y="1828800"/>
            <a:ext cx="6400800" cy="4191120"/>
            <a:chOff x="304920" y="1828800"/>
            <a:chExt cx="6400800" cy="4191120"/>
          </a:xfrm>
        </p:grpSpPr>
        <p:pic>
          <p:nvPicPr>
            <p:cNvPr id="743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6400800" cy="3962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4" name="Straight Arrow Connector 7"/>
            <p:cNvCxnSpPr/>
            <p:nvPr/>
          </p:nvCxnSpPr>
          <p:spPr>
            <a:xfrm flipV="1">
              <a:off x="3732840" y="4267080"/>
              <a:ext cx="76680" cy="76248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745" name="Up Arrow 8"/>
            <p:cNvSpPr/>
            <p:nvPr/>
          </p:nvSpPr>
          <p:spPr>
            <a:xfrm>
              <a:off x="5181840" y="2819160"/>
              <a:ext cx="304560" cy="2133720"/>
            </a:xfrm>
            <a:prstGeom prst="upArrow">
              <a:avLst>
                <a:gd name="adj1" fmla="val 50000"/>
                <a:gd name="adj2" fmla="val 5004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6" name="Up Arrow 9"/>
            <p:cNvSpPr/>
            <p:nvPr/>
          </p:nvSpPr>
          <p:spPr>
            <a:xfrm>
              <a:off x="3124440" y="3886200"/>
              <a:ext cx="304560" cy="1295280"/>
            </a:xfrm>
            <a:prstGeom prst="upArrow">
              <a:avLst>
                <a:gd name="adj1" fmla="val 50000"/>
                <a:gd name="adj2" fmla="val 500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7" name="Up Arrow 10"/>
            <p:cNvSpPr/>
            <p:nvPr/>
          </p:nvSpPr>
          <p:spPr>
            <a:xfrm>
              <a:off x="1066680" y="5258160"/>
              <a:ext cx="304560" cy="761760"/>
            </a:xfrm>
            <a:prstGeom prst="upArrow">
              <a:avLst>
                <a:gd name="adj1" fmla="val 50000"/>
                <a:gd name="adj2" fmla="val 5002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8" name="Left Arrow 12"/>
            <p:cNvSpPr/>
            <p:nvPr/>
          </p:nvSpPr>
          <p:spPr>
            <a:xfrm>
              <a:off x="1676520" y="2514600"/>
              <a:ext cx="3124080" cy="304560"/>
            </a:xfrm>
            <a:prstGeom prst="leftArrow">
              <a:avLst>
                <a:gd name="adj1" fmla="val 50000"/>
                <a:gd name="adj2" fmla="val 50054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9" name="Left Arrow 13"/>
            <p:cNvSpPr/>
            <p:nvPr/>
          </p:nvSpPr>
          <p:spPr>
            <a:xfrm>
              <a:off x="1295280" y="3733920"/>
              <a:ext cx="1676160" cy="304560"/>
            </a:xfrm>
            <a:prstGeom prst="leftArrow">
              <a:avLst>
                <a:gd name="adj1" fmla="val 50000"/>
                <a:gd name="adj2" fmla="val 5004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Left Arrow 15"/>
            <p:cNvSpPr/>
            <p:nvPr/>
          </p:nvSpPr>
          <p:spPr>
            <a:xfrm>
              <a:off x="1371600" y="5029560"/>
              <a:ext cx="838080" cy="228600"/>
            </a:xfrm>
            <a:prstGeom prst="leftArrow">
              <a:avLst>
                <a:gd name="adj1" fmla="val 50000"/>
                <a:gd name="adj2" fmla="val 49985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751" name="Picture 5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205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B   Motor Control – Open-Loop  Joystick input to PWM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4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6288120" cy="4572000"/>
          </a:xfrm>
          <a:prstGeom prst="rect">
            <a:avLst/>
          </a:prstGeom>
          <a:ln w="0">
            <a:noFill/>
          </a:ln>
        </p:spPr>
      </p:pic>
      <p:sp>
        <p:nvSpPr>
          <p:cNvPr id="755" name="Up Arrow 18"/>
          <p:cNvSpPr/>
          <p:nvPr/>
        </p:nvSpPr>
        <p:spPr>
          <a:xfrm>
            <a:off x="3886200" y="4114800"/>
            <a:ext cx="304920" cy="144792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Up Arrow 19"/>
          <p:cNvSpPr/>
          <p:nvPr/>
        </p:nvSpPr>
        <p:spPr>
          <a:xfrm flipH="1" rot="14094600">
            <a:off x="2750040" y="3727440"/>
            <a:ext cx="338400" cy="2347920"/>
          </a:xfrm>
          <a:prstGeom prst="upArrow">
            <a:avLst>
              <a:gd name="adj1" fmla="val 50000"/>
              <a:gd name="adj2" fmla="val 4994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Up Arrow 20"/>
          <p:cNvSpPr/>
          <p:nvPr/>
        </p:nvSpPr>
        <p:spPr>
          <a:xfrm rot="3330000">
            <a:off x="5175360" y="1788840"/>
            <a:ext cx="297000" cy="2779920"/>
          </a:xfrm>
          <a:prstGeom prst="upArrow">
            <a:avLst>
              <a:gd name="adj1" fmla="val 50000"/>
              <a:gd name="adj2" fmla="val 5005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Up Arrow 21"/>
          <p:cNvSpPr/>
          <p:nvPr/>
        </p:nvSpPr>
        <p:spPr>
          <a:xfrm>
            <a:off x="1600200" y="2286000"/>
            <a:ext cx="380880" cy="1523880"/>
          </a:xfrm>
          <a:prstGeom prst="upArrow">
            <a:avLst>
              <a:gd name="adj1" fmla="val 50000"/>
              <a:gd name="adj2" fmla="val 52401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Up Arrow 22"/>
          <p:cNvSpPr/>
          <p:nvPr/>
        </p:nvSpPr>
        <p:spPr>
          <a:xfrm rot="16200000">
            <a:off x="2466000" y="3216960"/>
            <a:ext cx="420480" cy="152388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Up Arrow 23"/>
          <p:cNvSpPr/>
          <p:nvPr/>
        </p:nvSpPr>
        <p:spPr>
          <a:xfrm rot="10800000">
            <a:off x="1600200" y="4038480"/>
            <a:ext cx="380880" cy="1524240"/>
          </a:xfrm>
          <a:prstGeom prst="upArrow">
            <a:avLst>
              <a:gd name="adj1" fmla="val 50000"/>
              <a:gd name="adj2" fmla="val 5241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D   Motor Control – Open-Loop  Joystick input to PWM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TextBox 10"/>
          <p:cNvSpPr/>
          <p:nvPr/>
        </p:nvSpPr>
        <p:spPr>
          <a:xfrm>
            <a:off x="762120" y="2133720"/>
            <a:ext cx="743724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rebuchet MS"/>
              </a:rPr>
              <a:t>PWM Motor Control output tracks/follows/mirrors the Joystick input command in a direct mann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Joystick input = 127 , PWM motor control = 127, Off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rebuchet MS"/>
              </a:rPr>
              <a:t>Joystick input = 200,  PWM motor control = 200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Joystick input =   50,  PWM motor control =   50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TextBox 11"/>
          <p:cNvSpPr/>
          <p:nvPr/>
        </p:nvSpPr>
        <p:spPr>
          <a:xfrm>
            <a:off x="838080" y="4800600"/>
            <a:ext cx="716292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PWM Open-Loop motor control =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Joystick input (0-255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D   Motor Control – Open-Loo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0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E   Motor Control – Open-Loo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Footer Placeholder 3"/>
          <p:cNvSpPr/>
          <p:nvPr/>
        </p:nvSpPr>
        <p:spPr>
          <a:xfrm>
            <a:off x="1676520" y="6172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TextBox 4"/>
          <p:cNvSpPr/>
          <p:nvPr/>
        </p:nvSpPr>
        <p:spPr>
          <a:xfrm>
            <a:off x="626040" y="2209680"/>
            <a:ext cx="81162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In order for Closed-Loop control to work well the Open-Loop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control must be reasonably accurat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TextBox 5"/>
          <p:cNvSpPr/>
          <p:nvPr/>
        </p:nvSpPr>
        <p:spPr>
          <a:xfrm>
            <a:off x="758160" y="3352680"/>
            <a:ext cx="7413480" cy="83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I think this is one fact that often is seriously overlook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by novices – make the Open-Loop control work well!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TextBox 6"/>
          <p:cNvSpPr/>
          <p:nvPr/>
        </p:nvSpPr>
        <p:spPr>
          <a:xfrm>
            <a:off x="835920" y="4419720"/>
            <a:ext cx="76726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In this example, I experimentally determined the valu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that would make the VEX robot drive reasonably straigh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Open_Loop_Speed = 166 (Motor2) &amp; 97(Motor1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6A  PID Control – Closed-Loo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TextBox 4"/>
          <p:cNvSpPr/>
          <p:nvPr/>
        </p:nvSpPr>
        <p:spPr>
          <a:xfrm>
            <a:off x="-85680" y="1981080"/>
            <a:ext cx="93582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Closed-Loop Control uses information obtained from a sensor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to modify the system behavior.  Another way of expressing thi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idea is that “feedback” is used to modify the original system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Behavior (Open-Loop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TextBox 5"/>
          <p:cNvSpPr/>
          <p:nvPr/>
        </p:nvSpPr>
        <p:spPr>
          <a:xfrm>
            <a:off x="457200" y="3809880"/>
            <a:ext cx="839628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Trebuchet MS"/>
              </a:rPr>
              <a:t>Closed-Loop Control uses information obtained from the pair of Encoders to modify the motor speed command.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Our Closed-Loop Control example will utilize both proportional and integral correction and neglect differential correction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6B  PID Control – Closed-Loo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TextBox 4"/>
          <p:cNvSpPr/>
          <p:nvPr/>
        </p:nvSpPr>
        <p:spPr>
          <a:xfrm>
            <a:off x="-73440" y="1981080"/>
            <a:ext cx="9292680" cy="34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Closed-Loop Control requires the use of an error term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Our error term is simple: Compare the difference between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both encoder pulse counts in order to determine which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motor (left or right) needs to speed up to help drive straigh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Closed-Loop Error = Right Encoder – Left Encod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6C  PID Control – Closed-Loo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2" name="Picture 4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728040" cy="2095560"/>
          </a:xfrm>
          <a:prstGeom prst="rect">
            <a:avLst/>
          </a:prstGeom>
          <a:ln w="0">
            <a:noFill/>
          </a:ln>
        </p:spPr>
      </p:pic>
      <p:sp>
        <p:nvSpPr>
          <p:cNvPr id="783" name="TextBox 5"/>
          <p:cNvSpPr/>
          <p:nvPr/>
        </p:nvSpPr>
        <p:spPr>
          <a:xfrm>
            <a:off x="1236960" y="4952880"/>
            <a:ext cx="594144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Goal: Use Encoder Feedback to help the VEX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Robot Drive Straight Autonomousl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6D  PID Control – Closed-Loo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6" name="Picture 4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84872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bf"/>
                </a:solidFill>
                <a:latin typeface="Trebuchet MS"/>
              </a:rPr>
              <a:t>Introduction –Primary Goal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b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bf"/>
                </a:solidFill>
                <a:latin typeface="Trebuchet MS"/>
              </a:rPr>
              <a:t>The PI control methodology in this presentation has been implemented in a manner that can be understood by high-school students and their coaches, an audience that is often left behind by the technical nature of PI-control.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</a:rPr>
              <a:t>7A  Proportional Correction – 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TextBox 3"/>
          <p:cNvSpPr/>
          <p:nvPr/>
        </p:nvSpPr>
        <p:spPr>
          <a:xfrm>
            <a:off x="914400" y="21337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rebuchet MS"/>
              </a:rPr>
              <a:t>The larger the Closed-Loop error term, the larger the Proportional Correction becomes and vice vers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TextBox 6"/>
          <p:cNvSpPr/>
          <p:nvPr/>
        </p:nvSpPr>
        <p:spPr>
          <a:xfrm>
            <a:off x="685800" y="3809880"/>
            <a:ext cx="7543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Algebra: Think of the Proportional Correction as the slope of a line: y = mx + b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(m = slope, x =Closed-Loop error term, b=0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</a:rPr>
              <a:t>7B  Proportional Correction – 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TextBox 3"/>
          <p:cNvSpPr/>
          <p:nvPr/>
        </p:nvSpPr>
        <p:spPr>
          <a:xfrm>
            <a:off x="1295280" y="2209680"/>
            <a:ext cx="62485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If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Right Encoder &gt; Left Encod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Then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Increase PWM Motor Counts b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(Right Encoder – Left Encoder) / 4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Limit to 20%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TextBox 4"/>
          <p:cNvSpPr/>
          <p:nvPr/>
        </p:nvSpPr>
        <p:spPr>
          <a:xfrm>
            <a:off x="920880" y="4038480"/>
            <a:ext cx="67262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MotorX_PropAdapt = (Total Right Encoder Counts-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Total Left Encoder Counts)/4 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5" name="TextBox 5"/>
          <p:cNvSpPr/>
          <p:nvPr/>
        </p:nvSpPr>
        <p:spPr>
          <a:xfrm>
            <a:off x="1046160" y="5105520"/>
            <a:ext cx="588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0 &lt; MotorX_PropAdapt &lt; 20 (good practice)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1676520" y="5791320"/>
            <a:ext cx="60958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90 pulses per complete wheel revolu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8A  Integral Correction – 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TextBox 3"/>
          <p:cNvSpPr/>
          <p:nvPr/>
        </p:nvSpPr>
        <p:spPr>
          <a:xfrm>
            <a:off x="914400" y="2209680"/>
            <a:ext cx="701028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rebuchet MS"/>
              </a:rPr>
              <a:t>I propose that you use a modified metho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rebuchet MS"/>
              </a:rPr>
              <a:t>for Integral Correction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700"/>
              </a:spcBef>
              <a:buClr>
                <a:srgbClr val="cc66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rebuchet MS"/>
              </a:rPr>
              <a:t>Increase/Decrease the Integral Term by one for each control loop based pm the Closed-Loop Error within limi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8B  Integral Correction – 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TextBox 3"/>
          <p:cNvSpPr/>
          <p:nvPr/>
        </p:nvSpPr>
        <p:spPr>
          <a:xfrm>
            <a:off x="1295280" y="2209680"/>
            <a:ext cx="62485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If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Right Encoder &gt; (Left Encoder </a:t>
            </a: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+ offset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Then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Increase PWM Motor Counts by On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Else     Decrease PWM Motor Counts by On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       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Limit to plus/minus 10%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3" name="TextBox 5"/>
          <p:cNvSpPr/>
          <p:nvPr/>
        </p:nvSpPr>
        <p:spPr>
          <a:xfrm>
            <a:off x="1449360" y="4114800"/>
            <a:ext cx="587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-10 &lt; MotorX_IntAdapt &lt; 10 (good practice)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1143000" y="5105520"/>
            <a:ext cx="60958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90 pulses per complete wheel revolu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8C  Integral Correction – 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9A  Prop + Integral – P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9B  Prop + Integral – P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10  Differential Correction– D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TextBox 3"/>
          <p:cNvSpPr/>
          <p:nvPr/>
        </p:nvSpPr>
        <p:spPr>
          <a:xfrm>
            <a:off x="809640" y="2362320"/>
            <a:ext cx="79059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Will not be used in this present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Is more difficult to calibrate/tune in genera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Is difficult to teach to high school studen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11  Test Case 1 – P control On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16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8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12  Test Case 2 – P control On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iographical Info – Marc Center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GM Product Development -Hybrid Powertrain System Engineer for Gen2 RWD next generation of hybrid transmission products, 2007 - forwar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Undergraduate degree – BE-EE – General Motors Institute (Kettering University) – 198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Graduate degree – MS-ECE – Oakland University Rochester Michigan – 1986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25 years plus of embedded engine/transmission/hybrid controls experience at General Mo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Team 1286, Oakland Technical Campus-SE, mentor 2005,200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Paul Center, son, award $24,000 FIRST scholarship to Lawrence Technological Univers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akland County Competitive Robotics Association VEX Mentor, Oakland County, Michigan 2007/200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Team 47, Chief Delphi, Pontiac Central High School Engineering Mentor for 2008/200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13  Test Case 1 – I control On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21" name="Picture 1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14  Test Case 2 – I control On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15  Test Case 1 – PI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16  Test Case 2 – PI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17  PI Control Tuning Idea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TextBox 3"/>
          <p:cNvSpPr/>
          <p:nvPr/>
        </p:nvSpPr>
        <p:spPr>
          <a:xfrm>
            <a:off x="838080" y="1828800"/>
            <a:ext cx="784872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Limit Proportional Correction &lt; +/- 20% , preferably &lt; +/- 10%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rebuchet MS"/>
              </a:rPr>
              <a:t>Limit Integral Correction &lt; +/- 10%, preferably &lt; +/- 5%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Use the modified Integral Correction method outlined and Limit Integral Correction &lt; 1% per control execution rat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Open-Loop Control should deliver 80-90% of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final results without Closed-Loop Contro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17</a:t>
            </a: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  </a:t>
            </a: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Good software control practic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TextBox 3"/>
          <p:cNvSpPr/>
          <p:nvPr/>
        </p:nvSpPr>
        <p:spPr>
          <a:xfrm>
            <a:off x="838080" y="2286000"/>
            <a:ext cx="7848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Place limits on calculat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Know what the numbers mean!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Create test cases and verify test resul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</a:rPr>
              <a:t>18 Acknowledgement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19 Appendic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ackup / Additional Reference Materia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EasyC Pro Programming Exampl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3" name="TextBox 4"/>
          <p:cNvSpPr/>
          <p:nvPr/>
        </p:nvSpPr>
        <p:spPr>
          <a:xfrm>
            <a:off x="1219320" y="213372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b05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An EasyC Pro program that illustrates the concepts in this presentation has been created and resides on Chief Delphi websit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8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rebuchet MS"/>
              </a:rPr>
              <a:t>Outline Parts 1-9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Robot Platform – VEX Robo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Software Platform – Easy-C Pr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Motor Control – PWM (0, 127, 254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Motor Control – PWM (54, 127, 200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rebuchet MS"/>
              </a:rPr>
              <a:t>VEX Encoder -  Feedb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rebuchet MS"/>
              </a:rPr>
              <a:t>Motor Control – Open-Loo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PID Control – Closed-Loop(feedback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rebuchet MS"/>
              </a:rPr>
              <a:t>Proportional Correction – P Contr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Integral Correction – I Contr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EasyC Pro Website Information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6" name="Picture 5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15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8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rebuchet MS"/>
              </a:rPr>
              <a:t>Outline Parts 10- 16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Differential Control – D Contr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rebuchet MS"/>
              </a:rPr>
              <a:t>Test Case 1 (P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rebuchet MS"/>
              </a:rPr>
              <a:t>Test Case 2 (P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Test Case 1 (I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Test Case 2 (I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Test Case 1 (P + I together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Test Case 2 (P + I together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8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rebuchet MS"/>
              </a:rPr>
              <a:t>Outline Parts 17- 22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rebuchet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PI Control Tuning Pract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Good software control pract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Trebuchet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Trebuchet MS"/>
              </a:rPr>
              <a:t>Acknowledgements</a:t>
            </a:r>
            <a:r>
              <a:rPr b="0" lang="en-US" sz="2800" spc="-1" strike="noStrike">
                <a:solidFill>
                  <a:srgbClr val="00b0f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Append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rebuchet MS"/>
              </a:rPr>
              <a:t>1A    Robot Platform – Vex Robo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5" name="Picture 4" descr="100_6703"/>
          <p:cNvPicPr/>
          <p:nvPr/>
        </p:nvPicPr>
        <p:blipFill>
          <a:blip r:embed="rId1"/>
          <a:stretch/>
        </p:blipFill>
        <p:spPr>
          <a:xfrm>
            <a:off x="533520" y="1828800"/>
            <a:ext cx="807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205740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rebuchet MS"/>
              </a:rPr>
              <a:t>1B    Robot Platform – Vex Robo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78" name="Group 34"/>
          <p:cNvGrpSpPr/>
          <p:nvPr/>
        </p:nvGrpSpPr>
        <p:grpSpPr>
          <a:xfrm>
            <a:off x="304920" y="1981080"/>
            <a:ext cx="4419360" cy="3810240"/>
            <a:chOff x="304920" y="1981080"/>
            <a:chExt cx="4419360" cy="3810240"/>
          </a:xfrm>
        </p:grpSpPr>
        <p:sp>
          <p:nvSpPr>
            <p:cNvPr id="579" name="Rounded Rectangle 42"/>
            <p:cNvSpPr/>
            <p:nvPr/>
          </p:nvSpPr>
          <p:spPr>
            <a:xfrm>
              <a:off x="304920" y="1981080"/>
              <a:ext cx="4419360" cy="3810240"/>
            </a:xfrm>
            <a:prstGeom prst="roundRect">
              <a:avLst>
                <a:gd name="adj" fmla="val 16667"/>
              </a:avLst>
            </a:prstGeom>
            <a:solidFill>
              <a:srgbClr val="aa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580" name="Group 31"/>
            <p:cNvGrpSpPr/>
            <p:nvPr/>
          </p:nvGrpSpPr>
          <p:grpSpPr>
            <a:xfrm>
              <a:off x="746640" y="2188800"/>
              <a:ext cx="3567600" cy="3409200"/>
              <a:chOff x="746640" y="2188800"/>
              <a:chExt cx="3567600" cy="3409200"/>
            </a:xfrm>
          </p:grpSpPr>
          <p:sp>
            <p:nvSpPr>
              <p:cNvPr id="581" name="Straight Connector 30"/>
              <p:cNvSpPr/>
              <p:nvPr/>
            </p:nvSpPr>
            <p:spPr>
              <a:xfrm flipH="1">
                <a:off x="1256040" y="2614680"/>
                <a:ext cx="720" cy="798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2" name="Straight Connector 28"/>
              <p:cNvSpPr/>
              <p:nvPr/>
            </p:nvSpPr>
            <p:spPr>
              <a:xfrm flipH="1">
                <a:off x="1256040" y="4372920"/>
                <a:ext cx="720" cy="798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3" name="Straight Connector 19"/>
              <p:cNvSpPr/>
              <p:nvPr/>
            </p:nvSpPr>
            <p:spPr>
              <a:xfrm>
                <a:off x="3804840" y="3147480"/>
                <a:ext cx="42480" cy="2660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4" name="Straight Connector 27"/>
              <p:cNvSpPr/>
              <p:nvPr/>
            </p:nvSpPr>
            <p:spPr>
              <a:xfrm flipH="1">
                <a:off x="3804840" y="4266360"/>
                <a:ext cx="720" cy="58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5" name="Straight Connector 21"/>
              <p:cNvSpPr/>
              <p:nvPr/>
            </p:nvSpPr>
            <p:spPr>
              <a:xfrm flipH="1">
                <a:off x="3804840" y="2987640"/>
                <a:ext cx="720" cy="58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6" name="Rounded Rectangle 3"/>
              <p:cNvSpPr/>
              <p:nvPr/>
            </p:nvSpPr>
            <p:spPr>
              <a:xfrm>
                <a:off x="746640" y="272124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7" name="Rounded Rectangle 8"/>
              <p:cNvSpPr/>
              <p:nvPr/>
            </p:nvSpPr>
            <p:spPr>
              <a:xfrm>
                <a:off x="746640" y="218880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8" name="Rounded Rectangle 9"/>
              <p:cNvSpPr/>
              <p:nvPr/>
            </p:nvSpPr>
            <p:spPr>
              <a:xfrm>
                <a:off x="746640" y="517212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9" name="Rounded Rectangle 11"/>
              <p:cNvSpPr/>
              <p:nvPr/>
            </p:nvSpPr>
            <p:spPr>
              <a:xfrm>
                <a:off x="746640" y="463932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0" name="Rounded Rectangle 12"/>
              <p:cNvSpPr/>
              <p:nvPr/>
            </p:nvSpPr>
            <p:spPr>
              <a:xfrm>
                <a:off x="3295080" y="463932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1" name="Rounded Rectangle 13"/>
              <p:cNvSpPr/>
              <p:nvPr/>
            </p:nvSpPr>
            <p:spPr>
              <a:xfrm>
                <a:off x="3295080" y="272124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2" name="Rounded Rectangle 14"/>
              <p:cNvSpPr/>
              <p:nvPr/>
            </p:nvSpPr>
            <p:spPr>
              <a:xfrm>
                <a:off x="3337560" y="3413880"/>
                <a:ext cx="891720" cy="3726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3" name="Rounded Rectangle 15"/>
              <p:cNvSpPr/>
              <p:nvPr/>
            </p:nvSpPr>
            <p:spPr>
              <a:xfrm>
                <a:off x="3337560" y="4053240"/>
                <a:ext cx="891720" cy="3726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4" name="Rounded Rectangle 16"/>
              <p:cNvSpPr/>
              <p:nvPr/>
            </p:nvSpPr>
            <p:spPr>
              <a:xfrm>
                <a:off x="789120" y="3360600"/>
                <a:ext cx="891720" cy="3726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5" name="Rounded Rectangle 17"/>
              <p:cNvSpPr/>
              <p:nvPr/>
            </p:nvSpPr>
            <p:spPr>
              <a:xfrm>
                <a:off x="789120" y="4053240"/>
                <a:ext cx="891720" cy="3726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sp>
          <p:nvSpPr>
            <p:cNvPr id="596" name="TextBox 32"/>
            <p:cNvSpPr/>
            <p:nvPr/>
          </p:nvSpPr>
          <p:spPr>
            <a:xfrm>
              <a:off x="779760" y="218880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7" name="TextBox 33"/>
            <p:cNvSpPr/>
            <p:nvPr/>
          </p:nvSpPr>
          <p:spPr>
            <a:xfrm>
              <a:off x="779760" y="516780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8" name="TextBox 34"/>
            <p:cNvSpPr/>
            <p:nvPr/>
          </p:nvSpPr>
          <p:spPr>
            <a:xfrm>
              <a:off x="879840" y="332172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9" name="TextBox 35"/>
            <p:cNvSpPr/>
            <p:nvPr/>
          </p:nvSpPr>
          <p:spPr>
            <a:xfrm>
              <a:off x="879840" y="401472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3421080" y="339120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1" name="TextBox 37"/>
            <p:cNvSpPr/>
            <p:nvPr/>
          </p:nvSpPr>
          <p:spPr>
            <a:xfrm>
              <a:off x="3421080" y="405936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2" name="TextBox 38"/>
            <p:cNvSpPr/>
            <p:nvPr/>
          </p:nvSpPr>
          <p:spPr>
            <a:xfrm>
              <a:off x="859680" y="269820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3" name="TextBox 39"/>
            <p:cNvSpPr/>
            <p:nvPr/>
          </p:nvSpPr>
          <p:spPr>
            <a:xfrm>
              <a:off x="844560" y="461376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4" name="TextBox 40"/>
            <p:cNvSpPr/>
            <p:nvPr/>
          </p:nvSpPr>
          <p:spPr>
            <a:xfrm>
              <a:off x="3441240" y="274284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5" name="TextBox 41"/>
            <p:cNvSpPr/>
            <p:nvPr/>
          </p:nvSpPr>
          <p:spPr>
            <a:xfrm>
              <a:off x="3441240" y="461376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606" name="Picture 33" descr="VEX Traction Control 013B.jpg"/>
          <p:cNvPicPr/>
          <p:nvPr/>
        </p:nvPicPr>
        <p:blipFill>
          <a:blip r:embed="rId1"/>
          <a:stretch/>
        </p:blipFill>
        <p:spPr>
          <a:xfrm>
            <a:off x="4952880" y="2057400"/>
            <a:ext cx="3778200" cy="3749760"/>
          </a:xfrm>
          <a:prstGeom prst="rect">
            <a:avLst/>
          </a:prstGeom>
          <a:ln w="0">
            <a:noFill/>
          </a:ln>
        </p:spPr>
      </p:pic>
      <p:sp>
        <p:nvSpPr>
          <p:cNvPr id="607" name="TextBox 35"/>
          <p:cNvSpPr/>
          <p:nvPr/>
        </p:nvSpPr>
        <p:spPr>
          <a:xfrm>
            <a:off x="5755320" y="1600200"/>
            <a:ext cx="247572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Polulu Ball Cast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TextBox 37"/>
          <p:cNvSpPr/>
          <p:nvPr/>
        </p:nvSpPr>
        <p:spPr>
          <a:xfrm>
            <a:off x="6589080" y="5867280"/>
            <a:ext cx="23526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VEX Omni Whe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TextBox 38"/>
          <p:cNvSpPr/>
          <p:nvPr/>
        </p:nvSpPr>
        <p:spPr>
          <a:xfrm>
            <a:off x="4557960" y="2819520"/>
            <a:ext cx="15570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VEX Whe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TextBox 39"/>
          <p:cNvSpPr/>
          <p:nvPr/>
        </p:nvSpPr>
        <p:spPr>
          <a:xfrm>
            <a:off x="7203600" y="2743200"/>
            <a:ext cx="186948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Acetal Whe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611" name="Straight Arrow Connector 41"/>
          <p:cNvCxnSpPr>
            <a:stCxn id="609" idx="2"/>
          </p:cNvCxnSpPr>
          <p:nvPr/>
        </p:nvCxnSpPr>
        <p:spPr>
          <a:xfrm>
            <a:off x="5335560" y="3249720"/>
            <a:ext cx="380160" cy="637200"/>
          </a:xfrm>
          <a:prstGeom prst="straightConnector1">
            <a:avLst/>
          </a:prstGeom>
          <a:ln w="3816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612" name="Straight Arrow Connector 43"/>
          <p:cNvCxnSpPr/>
          <p:nvPr/>
        </p:nvCxnSpPr>
        <p:spPr>
          <a:xfrm>
            <a:off x="6248520" y="2057400"/>
            <a:ext cx="380160" cy="637200"/>
          </a:xfrm>
          <a:prstGeom prst="straightConnector1">
            <a:avLst/>
          </a:prstGeom>
          <a:ln w="3816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613" name="Straight Arrow Connector 44"/>
          <p:cNvCxnSpPr/>
          <p:nvPr/>
        </p:nvCxnSpPr>
        <p:spPr>
          <a:xfrm flipH="1">
            <a:off x="6856200" y="2971800"/>
            <a:ext cx="535680" cy="1246680"/>
          </a:xfrm>
          <a:prstGeom prst="straightConnector1">
            <a:avLst/>
          </a:prstGeom>
          <a:ln w="3816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614" name="Straight Arrow Connector 45"/>
          <p:cNvCxnSpPr/>
          <p:nvPr/>
        </p:nvCxnSpPr>
        <p:spPr>
          <a:xfrm flipV="1">
            <a:off x="7467480" y="5258520"/>
            <a:ext cx="154800" cy="685080"/>
          </a:xfrm>
          <a:prstGeom prst="straightConnector1">
            <a:avLst/>
          </a:prstGeom>
          <a:ln w="38160">
            <a:solidFill>
              <a:srgbClr val="ffff1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4:04:54Z</dcterms:created>
  <dc:creator>Marc Bryan Center</dc:creator>
  <dc:description>Version 5 - PI Control Test Cases created and populated</dc:description>
  <cp:keywords>PI Control</cp:keywords>
  <dc:language>en-US</dc:language>
  <cp:lastModifiedBy>Marc B Center</cp:lastModifiedBy>
  <dcterms:modified xsi:type="dcterms:W3CDTF">2009-04-08T15:28:31Z</dcterms:modified>
  <cp:revision>98</cp:revision>
  <dc:subject>2009 FIRST Atlanta Conference Presentation</dc:subject>
  <dc:title>PI Control, using VEX and EasyC Pro Platform, for high school students and coaches</dc:title>
</cp:coreProperties>
</file>